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.png" ContentType="image/pn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6.jpeg" ContentType="image/jpeg"/>
  <Override PartName="/ppt/media/image27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7D44-A786-4A28-9ED5-9C2FE0AB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C96-B7CE-4801-879D-9AF7C627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C36-9289-44C5-A3D4-07998D9F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BF6-42C4-4241-AD37-5C68889E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F04-CAF3-4AC0-A9FF-2405E48E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5731-EB97-4033-AE9D-FC3B19FA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01FA-E333-4277-A771-12F85FC2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F006-3EC1-4B66-8102-43E13F14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1C8D-464D-47DE-B19A-C744B714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9C6A-69F3-48FC-BCD5-B2EE0930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9DD7-440F-4594-B645-BFF9C87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5D2-7AC1-4DD2-8BE8-A3E2FCF7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E41-15F8-4900-A656-2582B896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4A63-E956-4C35-89D9-653ADF0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20E1-0867-4871-BE41-8723F3FE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C97B-D537-458D-A1EF-15ADDDCE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704C-B3EE-4F14-8C5C-7BCA5C0D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BD8D-0055-4980-B437-D89F6490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01FC-7CCE-411D-B48B-F345EC53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D4B3-55FE-4E29-BE14-BC2D1D81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4DD5-14CC-4FA0-89E4-16351370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320F-6759-4EB3-8CBC-2D1FBEB7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EE5-745D-413E-A0D3-591E635C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323C-8825-4B33-A49E-D84CA0CA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A727-6AD2-4230-B044-CA39395D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DDF6-8ED0-4EF3-A4CD-4B75F08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772C-A69C-4F4B-8040-8FD4E2F4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0D74-CAFF-4CD9-8264-836FAF0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8594-A500-4BD2-946D-EB61D957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D203E-D0BC-447C-A438-6E504944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B6B4-2FAF-446C-8A2A-B91BDC8A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9D258-1821-4A16-87F8-9F5BA78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DCDF4-6876-4F94-A828-D687AE9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46D-BFFF-4CDB-ABBA-A7B3821D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C5C9-F4A8-413A-B959-3A2222E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C3164-8084-4AC7-845B-3B242A7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B745-03DF-4B17-882B-D742930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8B74-DACA-4F17-925F-2097574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A8DB-3EEF-443C-9887-1090881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C4DD-9816-44AE-B47C-8FBAB3C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7D49-3A85-4AC6-90A0-780E713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E74D-393A-485D-B87C-543ABDA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CE4A-98B5-451C-8282-92507DE5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D0CE-1C80-4241-8789-C20EC0A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837-166A-4677-9888-0E84DC6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F969-ABFB-4D42-B723-D5A58659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E36E-23D7-41DA-A8E1-173DFF81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71CBE-CCCF-4F6E-891D-BFC23E2A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6889-BBFD-4925-9663-2BE4F76C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4EFB9-DF7C-40A5-8B95-B7CDEECB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4EF6E-C386-4076-89A1-CD361FD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46BFA-11DD-44A2-B704-4491B63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0524-1124-48AD-A490-19D4A86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8B978-87A8-49CA-BF78-12F9DC4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E8B7B-C3DF-401F-9672-395F5158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55D-3092-4EB4-B808-576C7FD3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D94E3-FC80-466B-B708-D2508F98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D2A76-8710-4528-8877-5DFEE316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E73E3-53BE-4717-BC6A-2E0CD7CE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4B86C-D778-4BE3-8C41-9342C29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D72A-3EA3-439B-B893-2194C39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7360-2785-432C-B4EE-E5ECABE3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AE0F7-279D-4F7C-B6F1-89A38B53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0853B-98DF-4B2D-A994-E4F3D200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9780D-5499-4491-B1D8-2AC81198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72B2-94C6-4682-B70A-6EF5B154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DD7-1A6F-41C0-8A65-C7C2BD4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1664-5336-4D64-B5FA-97740226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F703-CAE1-49E3-A6FA-8CAD63B1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D4CD1-1F7F-496C-BCB6-93672FEF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82461-2D81-43C8-81F1-2C0A7EC2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67C0-2E91-46F4-8B97-C4AB84BE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2576-2A7A-4237-8896-7C59D16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6FF54-3037-4E0B-A02C-29984261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E4DCA-26F8-40CE-B9D0-62CF3113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E7FF7-86F0-4927-9D2D-8B6C075A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6CEB-5C98-4443-9BCA-B0AA032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D5D-567D-4B1A-A07C-CEEC3CA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776B3-41AB-41A3-A82D-1CB0D3AD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3D85-0006-46C6-A69C-AAC4D06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A778E-0BBC-4AC6-AD9F-6A0E7DAF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3DB7-4020-4F86-B1AD-9D546F77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960D-1792-4C4F-A8CC-0698A5C0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F0D0F-331C-43E3-9599-BE2F0A67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39BED-30F6-4B73-B61E-21F5D1A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FE2F-CED9-410C-9DAC-DA1F8E72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7434-FB2B-4232-A214-057C78AB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3E2F7-D0C7-45A7-8647-3878788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0E5-4562-4215-8F00-061E1F1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E34B-2665-40D8-A55C-32A4BF1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D12F3-CD9E-4059-A59D-A57AFF40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CDABE-8D48-4A83-BC2C-945C7D1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AEFB0-D484-45B6-A0F5-ECEA2EE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FB0D8-D1A2-4D49-9C67-087A1E2A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EF30-B4D2-41BB-AD1C-4E108311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5F3AC-79E9-481A-AA34-68CC24B4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74EE-998F-4EA7-B17A-E137A09CD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CE54-4B27-44A8-BAA9-4EF0794837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9D7-3AA4-4459-9832-5E7235EDF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444-6ED0-4E27-A398-9D0FD01D8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2947-D79B-416D-A095-8C5AB3345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256-8877-4A4A-ABDC-D8B24759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B9E-FC92-4D7D-B585-3F9BF9DC1FC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6369-478E-43F0-B56D-4025E263835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50428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1292400" y="3425760"/>
            <a:ext cx="65102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3"/>
          <p:cNvSpPr/>
          <p:nvPr/>
        </p:nvSpPr>
        <p:spPr>
          <a:xfrm>
            <a:off x="3352680" y="1219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ek City-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polis cbcbcbcb.jpg"/>
          <p:cNvPicPr/>
          <p:nvPr/>
        </p:nvPicPr>
        <p:blipFill>
          <a:blip r:embed="rId2"/>
          <a:stretch/>
        </p:blipFill>
        <p:spPr>
          <a:xfrm>
            <a:off x="2133720" y="2286000"/>
            <a:ext cx="5414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1143000" y="1295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of wisdom and the right way to 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philosophy cbcbcbcbcbcbcbcb.jpg"/>
          <p:cNvPicPr/>
          <p:nvPr/>
        </p:nvPicPr>
        <p:blipFill>
          <a:blip r:embed="rId2"/>
          <a:stretch/>
        </p:blipFill>
        <p:spPr>
          <a:xfrm>
            <a:off x="2819520" y="1905120"/>
            <a:ext cx="3643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1066680" y="1447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ea of land nearly surrounded by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peninsula cbcbcbcbcb.jpg"/>
          <p:cNvPicPr/>
          <p:nvPr/>
        </p:nvPicPr>
        <p:blipFill>
          <a:blip r:embed="rId2"/>
          <a:stretch/>
        </p:blipFill>
        <p:spPr>
          <a:xfrm>
            <a:off x="1905120" y="2514600"/>
            <a:ext cx="51670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3"/>
          <p:cNvSpPr/>
          <p:nvPr/>
        </p:nvSpPr>
        <p:spPr>
          <a:xfrm>
            <a:off x="99072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r between Athens and Sp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4" descr="p war cbcbcbcbcbcbcbcbcb.jpg"/>
          <p:cNvPicPr/>
          <p:nvPr/>
        </p:nvPicPr>
        <p:blipFill>
          <a:blip r:embed="rId2"/>
          <a:stretch/>
        </p:blipFill>
        <p:spPr>
          <a:xfrm>
            <a:off x="2057400" y="2514600"/>
            <a:ext cx="50292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09480" y="160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kind of government that is run by a small group o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4" descr="Oligarchy cbcbcbcbcbcb.jpg"/>
          <p:cNvPicPr/>
          <p:nvPr/>
        </p:nvPicPr>
        <p:blipFill>
          <a:blip r:embed="rId2"/>
          <a:stretch/>
        </p:blipFill>
        <p:spPr>
          <a:xfrm>
            <a:off x="2438280" y="2590920"/>
            <a:ext cx="485784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16765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tered place along a coast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4" descr="Harbor cbcbcbcbcbcb.jpg"/>
          <p:cNvPicPr/>
          <p:nvPr/>
        </p:nvPicPr>
        <p:blipFill>
          <a:blip r:embed="rId2"/>
          <a:stretch/>
        </p:blipFill>
        <p:spPr>
          <a:xfrm>
            <a:off x="1828800" y="2743200"/>
            <a:ext cx="53053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2511360" y="-66600"/>
            <a:ext cx="3743280" cy="987480"/>
          </a:xfrm>
          <a:prstGeom prst="rect">
            <a:avLst/>
          </a:prstGeom>
          <a:ln w="0">
            <a:noFill/>
          </a:ln>
        </p:spPr>
      </p:pic>
      <p:sp>
        <p:nvSpPr>
          <p:cNvPr id="348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7" descr="Acropolis cbcbcbcbc.jpg"/>
          <p:cNvPicPr/>
          <p:nvPr/>
        </p:nvPicPr>
        <p:blipFill>
          <a:blip r:embed="rId2"/>
          <a:stretch/>
        </p:blipFill>
        <p:spPr>
          <a:xfrm>
            <a:off x="1228680" y="2209680"/>
            <a:ext cx="6696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2511360" y="-66600"/>
            <a:ext cx="3743280" cy="987480"/>
          </a:xfrm>
          <a:prstGeom prst="rect">
            <a:avLst/>
          </a:prstGeom>
          <a:ln w="0">
            <a:noFill/>
          </a:ln>
        </p:spPr>
      </p:pic>
      <p:sp>
        <p:nvSpPr>
          <p:cNvPr id="35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1447920" y="9144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lace where Greeks meet and conduct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7" descr="Agora cb.jpg"/>
          <p:cNvPicPr/>
          <p:nvPr/>
        </p:nvPicPr>
        <p:blipFill>
          <a:blip r:embed="rId2"/>
          <a:stretch/>
        </p:blipFill>
        <p:spPr>
          <a:xfrm>
            <a:off x="2133720" y="2057400"/>
            <a:ext cx="46958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3"/>
          <p:cNvSpPr/>
          <p:nvPr/>
        </p:nvSpPr>
        <p:spPr>
          <a:xfrm>
            <a:off x="1676520" y="15238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wmaking place where people voted on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4" descr="Assembly cbcb.jpg"/>
          <p:cNvPicPr/>
          <p:nvPr/>
        </p:nvPicPr>
        <p:blipFill>
          <a:blip r:embed="rId2"/>
          <a:stretch/>
        </p:blipFill>
        <p:spPr>
          <a:xfrm>
            <a:off x="1752480" y="2438280"/>
            <a:ext cx="531828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1676520" y="14479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who has certain rights and responsibilities to his or her count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Citizens cbcbcbc.jpg"/>
          <p:cNvPicPr/>
          <p:nvPr/>
        </p:nvPicPr>
        <p:blipFill>
          <a:blip r:embed="rId2"/>
          <a:stretch/>
        </p:blipFill>
        <p:spPr>
          <a:xfrm>
            <a:off x="2590920" y="24382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4"/>
          <p:cNvSpPr/>
          <p:nvPr/>
        </p:nvSpPr>
        <p:spPr>
          <a:xfrm>
            <a:off x="15238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oup of people who lived apart from Greece but kept economic 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5" descr="Colony cbcbcb.jpg"/>
          <p:cNvPicPr/>
          <p:nvPr/>
        </p:nvPicPr>
        <p:blipFill>
          <a:blip r:embed="rId2"/>
          <a:stretch/>
        </p:blipFill>
        <p:spPr>
          <a:xfrm>
            <a:off x="2057400" y="2666880"/>
            <a:ext cx="512280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1066680" y="1523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orm of government where people vote to make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5" descr="Democrac cbcbcbcbcbcbcbc.jpg"/>
          <p:cNvPicPr/>
          <p:nvPr/>
        </p:nvPicPr>
        <p:blipFill>
          <a:blip r:embed="rId2"/>
          <a:stretch/>
        </p:blipFill>
        <p:spPr>
          <a:xfrm>
            <a:off x="1752480" y="2895480"/>
            <a:ext cx="580572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990720" y="144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hear evidence and make decisions in a court of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Juryyyyy cbcbcbcbcbcb.jpg"/>
          <p:cNvPicPr/>
          <p:nvPr/>
        </p:nvPicPr>
        <p:blipFill>
          <a:blip r:embed="rId2"/>
          <a:stretch/>
        </p:blipFill>
        <p:spPr>
          <a:xfrm>
            <a:off x="1828800" y="24382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22860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ment headed by one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4" descr="monarchyuyuyu cbcbcbc.jpg"/>
          <p:cNvPicPr/>
          <p:nvPr/>
        </p:nvPicPr>
        <p:blipFill>
          <a:blip r:embed="rId2"/>
          <a:stretch/>
        </p:blipFill>
        <p:spPr>
          <a:xfrm>
            <a:off x="2438280" y="2286000"/>
            <a:ext cx="43768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20:24:17Z</dcterms:modified>
  <cp:revision>91</cp:revision>
  <dc:subject/>
  <dc:title>Ancient Greece</dc:title>
</cp:coreProperties>
</file>